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20.png" ContentType="image/png"/>
  <Override PartName="/ppt/media/image15.png" ContentType="image/png"/>
  <Override PartName="/ppt/media/image3.jpeg" ContentType="image/jpeg"/>
  <Override PartName="/ppt/media/image30.png" ContentType="image/png"/>
  <Override PartName="/ppt/media/image5.jpeg" ContentType="image/jpeg"/>
  <Override PartName="/ppt/media/image11.wmf" ContentType="image/x-wmf"/>
  <Override PartName="/ppt/media/image48.wmf" ContentType="image/x-wmf"/>
  <Override PartName="/ppt/media/image50.png" ContentType="image/png"/>
  <Override PartName="/ppt/media/image29.png" ContentType="image/png"/>
  <Override PartName="/ppt/media/image6.png" ContentType="image/png"/>
  <Override PartName="/ppt/media/image36.png" ContentType="image/png"/>
  <Override PartName="/ppt/media/image18.png" ContentType="image/png"/>
  <Override PartName="/ppt/media/image37.png" ContentType="image/png"/>
  <Override PartName="/ppt/media/image40.wmf" ContentType="image/x-wmf"/>
  <Override PartName="/ppt/media/image39.png" ContentType="image/png"/>
  <Override PartName="/ppt/media/image42.wmf" ContentType="image/x-wmf"/>
  <Override PartName="/ppt/media/image43.wmf" ContentType="image/x-wmf"/>
  <Override PartName="/ppt/media/image44.wmf" ContentType="image/x-wmf"/>
  <Override PartName="/ppt/media/image34.png" ContentType="image/png"/>
  <Override PartName="/ppt/media/image45.wmf" ContentType="image/x-wmf"/>
  <Override PartName="/ppt/media/image4.jpeg" ContentType="image/jpeg"/>
  <Override PartName="/ppt/media/image35.png" ContentType="image/png"/>
  <Override PartName="/ppt/media/image46.wmf" ContentType="image/x-wmf"/>
  <Override PartName="/ppt/media/image26.png" ContentType="image/png"/>
  <Override PartName="/ppt/media/image51.png" ContentType="image/png"/>
  <Override PartName="/ppt/media/image52.png" ContentType="image/png"/>
  <Override PartName="/ppt/media/image54.png" ContentType="image/png"/>
  <Override PartName="/ppt/media/image33.png" ContentType="image/png"/>
  <Override PartName="/ppt/media/image32.png" ContentType="image/png"/>
  <Override PartName="/ppt/media/image31.png" ContentType="image/png"/>
  <Override PartName="/ppt/media/image53.wmf" ContentType="image/x-wmf"/>
  <Override PartName="/ppt/media/image13.png" ContentType="image/png"/>
  <Override PartName="/ppt/media/image49.png" ContentType="image/png"/>
  <Override PartName="/ppt/media/image12.png" ContentType="image/png"/>
  <Override PartName="/ppt/media/image9.jpeg" ContentType="image/jpeg"/>
  <Override PartName="/ppt/media/image38.png" ContentType="image/png"/>
  <Override PartName="/ppt/media/image41.wmf" ContentType="image/x-wmf"/>
  <Override PartName="/ppt/media/image8.jpeg" ContentType="image/jpeg"/>
  <Override PartName="/ppt/media/image7.jpeg" ContentType="image/jpeg"/>
  <Override PartName="/ppt/media/image28.png" ContentType="image/png"/>
  <Override PartName="/ppt/media/image10.wmf" ContentType="image/x-wmf"/>
  <Override PartName="/ppt/media/image47.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5EF8-EAB3-4D5F-968D-B6EE2C263F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50920" y="698400"/>
            <a:ext cx="4653000" cy="3490920"/>
          </a:xfrm>
          <a:prstGeom prst="rect">
            <a:avLst/>
          </a:prstGeom>
          <a:ln w="0">
            <a:noFill/>
          </a:ln>
        </p:spPr>
      </p:sp>
      <p:sp>
        <p:nvSpPr>
          <p:cNvPr id="17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0B22-97C2-4805-91A9-9B7673949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150920" y="698400"/>
            <a:ext cx="4653000" cy="3490920"/>
          </a:xfrm>
          <a:prstGeom prst="rect">
            <a:avLst/>
          </a:prstGeom>
          <a:ln w="0">
            <a:noFill/>
          </a:ln>
        </p:spPr>
      </p:sp>
      <p:sp>
        <p:nvSpPr>
          <p:cNvPr id="178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F07A-003F-4B1D-A712-6D46BDFE4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50920" y="698400"/>
            <a:ext cx="4653000" cy="3490920"/>
          </a:xfrm>
          <a:prstGeom prst="rect">
            <a:avLst/>
          </a:prstGeom>
          <a:ln w="0">
            <a:noFill/>
          </a:ln>
        </p:spPr>
      </p:sp>
      <p:sp>
        <p:nvSpPr>
          <p:cNvPr id="179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2099-595E-4D03-923C-21E4B4B5E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sldImg"/>
          </p:nvPr>
        </p:nvSpPr>
        <p:spPr>
          <a:xfrm>
            <a:off x="1150920" y="698400"/>
            <a:ext cx="4653000" cy="3490920"/>
          </a:xfrm>
          <a:prstGeom prst="rect">
            <a:avLst/>
          </a:prstGeom>
          <a:ln w="0">
            <a:noFill/>
          </a:ln>
        </p:spPr>
      </p:sp>
      <p:sp>
        <p:nvSpPr>
          <p:cNvPr id="179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489E-95B1-4764-93DE-8B98F23C2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50920" y="698400"/>
            <a:ext cx="4653000" cy="3490920"/>
          </a:xfrm>
          <a:prstGeom prst="rect">
            <a:avLst/>
          </a:prstGeom>
          <a:ln w="0">
            <a:noFill/>
          </a:ln>
        </p:spPr>
      </p:sp>
      <p:sp>
        <p:nvSpPr>
          <p:cNvPr id="179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8BD9-023B-4381-AA78-735ED280A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150920" y="698400"/>
            <a:ext cx="4653000" cy="3490920"/>
          </a:xfrm>
          <a:prstGeom prst="rect">
            <a:avLst/>
          </a:prstGeom>
          <a:ln w="0">
            <a:noFill/>
          </a:ln>
        </p:spPr>
      </p:sp>
      <p:sp>
        <p:nvSpPr>
          <p:cNvPr id="179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E231-AF0E-4C95-B6E0-9A8E5E131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50920" y="698400"/>
            <a:ext cx="4653000" cy="3490920"/>
          </a:xfrm>
          <a:prstGeom prst="rect">
            <a:avLst/>
          </a:prstGeom>
          <a:ln w="0">
            <a:noFill/>
          </a:ln>
        </p:spPr>
      </p:sp>
      <p:sp>
        <p:nvSpPr>
          <p:cNvPr id="180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8A2E-BB1A-47B1-9D26-E0B8FDEC6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150920" y="698400"/>
            <a:ext cx="4653000" cy="3490920"/>
          </a:xfrm>
          <a:prstGeom prst="rect">
            <a:avLst/>
          </a:prstGeom>
          <a:ln w="0">
            <a:noFill/>
          </a:ln>
        </p:spPr>
      </p:sp>
      <p:sp>
        <p:nvSpPr>
          <p:cNvPr id="180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7B2E-DD79-4B22-9BE5-C80DE8CE1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150920" y="698400"/>
            <a:ext cx="4653000" cy="3490920"/>
          </a:xfrm>
          <a:prstGeom prst="rect">
            <a:avLst/>
          </a:prstGeom>
          <a:ln w="0">
            <a:noFill/>
          </a:ln>
        </p:spPr>
      </p:sp>
      <p:sp>
        <p:nvSpPr>
          <p:cNvPr id="180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3E0D-F5AA-4525-BB5C-8267BF800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sldImg"/>
          </p:nvPr>
        </p:nvSpPr>
        <p:spPr>
          <a:xfrm>
            <a:off x="1150920" y="698400"/>
            <a:ext cx="4653000" cy="3490920"/>
          </a:xfrm>
          <a:prstGeom prst="rect">
            <a:avLst/>
          </a:prstGeom>
          <a:ln w="0">
            <a:noFill/>
          </a:ln>
        </p:spPr>
      </p:sp>
      <p:sp>
        <p:nvSpPr>
          <p:cNvPr id="181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0A01-B6D4-477A-B2BE-32209A3DB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1150920" y="698400"/>
            <a:ext cx="4653000" cy="3490920"/>
          </a:xfrm>
          <a:prstGeom prst="rect">
            <a:avLst/>
          </a:prstGeom>
          <a:ln w="0">
            <a:noFill/>
          </a:ln>
        </p:spPr>
      </p:sp>
      <p:sp>
        <p:nvSpPr>
          <p:cNvPr id="181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3D17-1473-40B2-8CED-BD0EF74DAF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50920" y="698400"/>
            <a:ext cx="4653000" cy="3490920"/>
          </a:xfrm>
          <a:prstGeom prst="rect">
            <a:avLst/>
          </a:prstGeom>
          <a:ln w="0">
            <a:noFill/>
          </a:ln>
        </p:spPr>
      </p:sp>
      <p:sp>
        <p:nvSpPr>
          <p:cNvPr id="176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B884-0E2E-4573-9C86-B1813D3A7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1150920" y="698400"/>
            <a:ext cx="4653000" cy="3490920"/>
          </a:xfrm>
          <a:prstGeom prst="rect">
            <a:avLst/>
          </a:prstGeom>
          <a:ln w="0">
            <a:noFill/>
          </a:ln>
        </p:spPr>
      </p:sp>
      <p:sp>
        <p:nvSpPr>
          <p:cNvPr id="181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7F41-3A35-406A-96DA-B40E08E79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50920" y="698400"/>
            <a:ext cx="4653000" cy="3490920"/>
          </a:xfrm>
          <a:prstGeom prst="rect">
            <a:avLst/>
          </a:prstGeom>
          <a:ln w="0">
            <a:noFill/>
          </a:ln>
        </p:spPr>
      </p:sp>
      <p:sp>
        <p:nvSpPr>
          <p:cNvPr id="182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E767-0161-46DE-AE28-803DF4A7C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150920" y="698400"/>
            <a:ext cx="4653000" cy="3490920"/>
          </a:xfrm>
          <a:prstGeom prst="rect">
            <a:avLst/>
          </a:prstGeom>
          <a:ln w="0">
            <a:noFill/>
          </a:ln>
        </p:spPr>
      </p:sp>
      <p:sp>
        <p:nvSpPr>
          <p:cNvPr id="182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6A1B-72D9-43E7-BEFA-F48F61AB2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150920" y="698400"/>
            <a:ext cx="4653000" cy="3490920"/>
          </a:xfrm>
          <a:prstGeom prst="rect">
            <a:avLst/>
          </a:prstGeom>
          <a:ln w="0">
            <a:noFill/>
          </a:ln>
        </p:spPr>
      </p:sp>
      <p:sp>
        <p:nvSpPr>
          <p:cNvPr id="182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F018-F46E-4919-9229-6247A3891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1150920" y="698400"/>
            <a:ext cx="4653000" cy="3490920"/>
          </a:xfrm>
          <a:prstGeom prst="rect">
            <a:avLst/>
          </a:prstGeom>
          <a:ln w="0">
            <a:noFill/>
          </a:ln>
        </p:spPr>
      </p:sp>
      <p:sp>
        <p:nvSpPr>
          <p:cNvPr id="18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8245-E127-4EE4-A36F-F1A684931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150920" y="698400"/>
            <a:ext cx="4653000" cy="3490920"/>
          </a:xfrm>
          <a:prstGeom prst="rect">
            <a:avLst/>
          </a:prstGeom>
          <a:ln w="0">
            <a:noFill/>
          </a:ln>
        </p:spPr>
      </p:sp>
      <p:sp>
        <p:nvSpPr>
          <p:cNvPr id="183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FBF6-AAEF-4D87-8BBF-869ED8D7D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150920" y="698400"/>
            <a:ext cx="4653000" cy="3490920"/>
          </a:xfrm>
          <a:prstGeom prst="rect">
            <a:avLst/>
          </a:prstGeom>
          <a:ln w="0">
            <a:noFill/>
          </a:ln>
        </p:spPr>
      </p:sp>
      <p:sp>
        <p:nvSpPr>
          <p:cNvPr id="183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FCD9-0099-45A8-B22A-F050E81DA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50920" y="698400"/>
            <a:ext cx="4653000" cy="3490920"/>
          </a:xfrm>
          <a:prstGeom prst="rect">
            <a:avLst/>
          </a:prstGeom>
          <a:ln w="0">
            <a:noFill/>
          </a:ln>
        </p:spPr>
      </p:sp>
      <p:sp>
        <p:nvSpPr>
          <p:cNvPr id="183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1316-A5C5-449F-9E83-421AECA5B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sldImg"/>
          </p:nvPr>
        </p:nvSpPr>
        <p:spPr>
          <a:xfrm>
            <a:off x="1150920" y="698400"/>
            <a:ext cx="4653000" cy="3490920"/>
          </a:xfrm>
          <a:prstGeom prst="rect">
            <a:avLst/>
          </a:prstGeom>
          <a:ln w="0">
            <a:noFill/>
          </a:ln>
        </p:spPr>
      </p:sp>
      <p:sp>
        <p:nvSpPr>
          <p:cNvPr id="184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2E33-EC1F-4779-8992-1FD21B6D2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150920" y="698400"/>
            <a:ext cx="4653000" cy="3490920"/>
          </a:xfrm>
          <a:prstGeom prst="rect">
            <a:avLst/>
          </a:prstGeom>
          <a:ln w="0">
            <a:noFill/>
          </a:ln>
        </p:spPr>
      </p:sp>
      <p:sp>
        <p:nvSpPr>
          <p:cNvPr id="184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7556-C0A6-48E7-B7B4-85B11A1A7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1150920" y="698400"/>
            <a:ext cx="4653000" cy="3490920"/>
          </a:xfrm>
          <a:prstGeom prst="rect">
            <a:avLst/>
          </a:prstGeom>
          <a:ln w="0">
            <a:noFill/>
          </a:ln>
        </p:spPr>
      </p:sp>
      <p:sp>
        <p:nvSpPr>
          <p:cNvPr id="184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E263-F220-404C-A0C1-BDAA75164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150920" y="698400"/>
            <a:ext cx="4653000" cy="3490920"/>
          </a:xfrm>
          <a:prstGeom prst="rect">
            <a:avLst/>
          </a:prstGeom>
          <a:ln w="0">
            <a:noFill/>
          </a:ln>
        </p:spPr>
      </p:sp>
      <p:sp>
        <p:nvSpPr>
          <p:cNvPr id="185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7732-3F57-40D7-80C5-FF97FF04C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50920" y="698400"/>
            <a:ext cx="4653000" cy="3490920"/>
          </a:xfrm>
          <a:prstGeom prst="rect">
            <a:avLst/>
          </a:prstGeom>
          <a:ln w="0">
            <a:noFill/>
          </a:ln>
        </p:spPr>
      </p:sp>
      <p:sp>
        <p:nvSpPr>
          <p:cNvPr id="185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7B1F-BB2E-4EB9-AF53-A715B1907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150920" y="698400"/>
            <a:ext cx="4653000" cy="3490920"/>
          </a:xfrm>
          <a:prstGeom prst="rect">
            <a:avLst/>
          </a:prstGeom>
          <a:ln w="0">
            <a:noFill/>
          </a:ln>
        </p:spPr>
      </p:sp>
      <p:sp>
        <p:nvSpPr>
          <p:cNvPr id="185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2C00-744C-49FC-8678-3CBB33755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50920" y="698400"/>
            <a:ext cx="4653000" cy="3490920"/>
          </a:xfrm>
          <a:prstGeom prst="rect">
            <a:avLst/>
          </a:prstGeom>
          <a:ln w="0">
            <a:noFill/>
          </a:ln>
        </p:spPr>
      </p:sp>
      <p:sp>
        <p:nvSpPr>
          <p:cNvPr id="185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4C12-5A16-4726-BCFF-1CE63E10E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150920" y="698400"/>
            <a:ext cx="4653000" cy="3490920"/>
          </a:xfrm>
          <a:prstGeom prst="rect">
            <a:avLst/>
          </a:prstGeom>
          <a:ln w="0">
            <a:noFill/>
          </a:ln>
        </p:spPr>
      </p:sp>
      <p:sp>
        <p:nvSpPr>
          <p:cNvPr id="186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FAF5-4ECA-4F1F-B23B-822B8A363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1150920" y="698400"/>
            <a:ext cx="4653000" cy="3490920"/>
          </a:xfrm>
          <a:prstGeom prst="rect">
            <a:avLst/>
          </a:prstGeom>
          <a:ln w="0">
            <a:noFill/>
          </a:ln>
        </p:spPr>
      </p:sp>
      <p:sp>
        <p:nvSpPr>
          <p:cNvPr id="186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5FF0-5E90-4AEE-B307-D5A5EF2AD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150920" y="698400"/>
            <a:ext cx="4653000" cy="3490920"/>
          </a:xfrm>
          <a:prstGeom prst="rect">
            <a:avLst/>
          </a:prstGeom>
          <a:ln w="0">
            <a:noFill/>
          </a:ln>
        </p:spPr>
      </p:sp>
      <p:sp>
        <p:nvSpPr>
          <p:cNvPr id="186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AEA5-3406-416A-AA0A-48E9FB57D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50920" y="698400"/>
            <a:ext cx="4653000" cy="3490920"/>
          </a:xfrm>
          <a:prstGeom prst="rect">
            <a:avLst/>
          </a:prstGeom>
          <a:ln w="0">
            <a:noFill/>
          </a:ln>
        </p:spPr>
      </p:sp>
      <p:sp>
        <p:nvSpPr>
          <p:cNvPr id="177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07E0-D96E-471A-AE75-A59AF444B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50920" y="698400"/>
            <a:ext cx="4653000" cy="3490920"/>
          </a:xfrm>
          <a:prstGeom prst="rect">
            <a:avLst/>
          </a:prstGeom>
          <a:ln w="0">
            <a:noFill/>
          </a:ln>
        </p:spPr>
      </p:sp>
      <p:sp>
        <p:nvSpPr>
          <p:cNvPr id="177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A835-19B1-4436-A6C3-DBDECCE10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50920" y="698400"/>
            <a:ext cx="4653000" cy="3490920"/>
          </a:xfrm>
          <a:prstGeom prst="rect">
            <a:avLst/>
          </a:prstGeom>
          <a:ln w="0">
            <a:noFill/>
          </a:ln>
        </p:spPr>
      </p:sp>
      <p:sp>
        <p:nvSpPr>
          <p:cNvPr id="177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4196-7C4B-4B0C-9ED7-21C21DCAF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50920" y="698400"/>
            <a:ext cx="4653000" cy="3490920"/>
          </a:xfrm>
          <a:prstGeom prst="rect">
            <a:avLst/>
          </a:prstGeom>
          <a:ln w="0">
            <a:noFill/>
          </a:ln>
        </p:spPr>
      </p:sp>
      <p:sp>
        <p:nvSpPr>
          <p:cNvPr id="178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C39D-628F-4261-84B1-D11D1FF386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50920" y="698400"/>
            <a:ext cx="4653000" cy="3490920"/>
          </a:xfrm>
          <a:prstGeom prst="rect">
            <a:avLst/>
          </a:prstGeom>
          <a:ln w="0">
            <a:noFill/>
          </a:ln>
        </p:spPr>
      </p:sp>
      <p:sp>
        <p:nvSpPr>
          <p:cNvPr id="178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F07F-C9B8-41EB-B6C3-415486011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C9007-45EF-4334-97B2-D9AF4C641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852A-AFD0-4B90-827A-ED5605A2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26880FB-C088-4A49-8D62-D94123FFE3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281BFC6-4E47-447E-A9D5-30E2193643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89D53AA-150D-42B3-8239-9AF359C3E8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D9416A7-42DD-4BEB-9807-4E45E41AC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798AA71-A6AC-41B3-988B-1085E776E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FE7FE2E-004C-4D5D-9C39-ACD2B340E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AB37332-6642-4DA1-85A1-32437890C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6AF1AF4-8B49-4576-A1BE-69B0CAFF0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B95D570-F199-4E45-817D-4D7EA5F6D84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39CDF91-80B1-40D4-807C-BECC498FC4F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83C09-1C6C-4619-B451-BC1258DFF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EE7C459-C556-4EDC-873B-BD10BCFBE9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0262343D-1913-4D5D-8EED-0D3865AF553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42C8AC6-8F18-4B87-8BF7-44685D36E52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C946CF14-97C9-4478-924C-B5D1EEA03B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29E97B58-23B9-4985-9956-D6A8E6E5827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A0B43B4-C855-4227-B9B1-03F5CAC479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226BDDF-3AAA-4489-90CA-097CCD99EC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3D30C12-58B7-4A52-AB92-42B8BC60F9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7711AD7-431B-4D26-8738-7B4F0A9A042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53A9A0AB-4AAA-4928-B395-835656050D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86B66-3683-4573-81D1-4701C34AD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67CFCB00-C075-492B-873A-F8D1F492E3F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1C1FB29-94F3-4425-A4E2-CE3769364F6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327DC1F-B6A0-42EE-8806-B1BDAD559C1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F1F4CBC-AE9D-4193-802D-2B651432261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8A09531-4544-47F8-B682-C7FE58A68B2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C5CC718-F410-4C9B-89E7-B9842B6B1D2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14A3749-A2D4-4D09-8E1E-C9EF77EC71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62A45C9-350E-4EFC-8C79-92A74179E96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1EE980E-9A3E-4AAA-B35E-5F6C9C48A9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A04BAC-C003-480D-9F40-0209D5699CB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BC227-2098-4C8B-A229-CAAA65E93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C0591F-E334-4BB0-8B76-DACFE364DA2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4978B3E-082B-40AD-8F04-03C93238751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4B0DC22-422B-476E-868E-FADE34F1EF3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841075A-1AE8-4E63-BD69-923037C7B78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8009777-FC2E-406B-9281-6978F911844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D1E8C6D-1D80-4433-ACE4-724FF3E6706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9242710-E7A8-45BD-A0F3-FCAD5B9FB64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D25ACC2-5AE3-4F71-B3D9-D66BAEB84F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9E0F72A-24AB-431F-9708-3A80E409B1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4A26B2E-C1A2-4FFE-8316-C3D907641D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C3E3A-36F9-4E8D-8B09-449E52BD7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0C58BE-3D56-48D3-A9FA-E282E97825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B57AABF-E595-48CC-9E65-5BEA1509E2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D111B09-304A-44DD-8C78-47848D0538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7024EA6-BE28-4297-B096-97690FA7B40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F5465A2-54D4-452E-9280-E55159CAEFB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28C38F3-B364-45DB-87C8-21E4A0BD0C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C63D185-3E05-433C-91C0-B5960DB405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C0F3216-B33F-40E9-B0C8-4E31B87E39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01499FB-72CB-4F80-B4F2-58CEE286D8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0185C16-ED79-4F5F-BE2B-86782B2BE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4D2C0-60A1-4D18-A338-7DE46064C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315574E-E6AB-42A5-9335-215E5B03E1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CC4E943-78F6-4BED-AD8A-DEB5393AC3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5A2E967-2847-438C-8C04-1DB9AFC4F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0F048CA-4B20-4A4D-8BC2-300A6323FF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D68C50D-255B-4E41-B17C-88D65EC2A0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C1EE277-722D-4FF9-8A61-76097E78C9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8AE8CE7-23D8-4F8B-8D0F-1F6786EC75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EBBDCB55-E98B-4347-AE0C-23F81A2A46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2C33823-F69F-45AF-A72D-B6C341BB63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7D39518-E9B6-4A1A-BF67-271E77682D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EABBD-19F8-4080-96B6-8ABCC2803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05321DB-2425-4CDC-BCAE-8C531218FE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D925F5F-3B82-40F3-9CC3-274C7EB5BA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68CA3A5-EB24-4274-9EE0-DE9DE3D8B5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1D098BE-CC1D-4339-B3CB-53F6038F50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632F7F1-6BD7-42E2-869D-DB5A97F63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985D32C-841C-4CDF-B69E-389C16473D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FED6CA9-41C5-4E7A-9E54-9C282FFEBC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7675677-B371-4023-AC80-DAA3F975AB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CC0375F-3B2A-4C85-8D5F-BF4B65FE73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0DD926A-B163-491D-9B28-BD2F5CD70A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CD2AC-3B73-4425-ADBE-CAAA6F953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03EAAE5-C220-478C-B666-10147279B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C8F0D24-6C20-4CD7-99F3-F49B34F1FB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285572B-4D72-42C6-AEBC-C61335B0CE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850C074-8C21-498C-8651-CD8FE3DAE1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554620E-A4F4-4CCA-B609-ED4F83E080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5064DA2-B028-455C-9A80-FF4E9D18C3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618387C-C166-463F-BBEC-F8F837EDE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ECC0375-569C-45DA-804D-C7B238CFC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A1FDDAB-BF85-4C21-9198-F7F463F9BA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D4F7FB8-F098-4033-88D3-806BECB64C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F5352-4D24-46EF-9190-1380468D1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55454D7-CBB5-43BC-B3B0-F0D03E69D1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002C17D-6609-4B4C-B90D-FAB46AAE9A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B9AE520-A2F8-4F9E-A670-02A9378E3E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2E69842-08DA-4404-B990-CEBD12511E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F955B03-7983-480E-9E1F-5FA7375878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A1423E3-FAD9-442D-8470-F32ED8ECAA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B5BE59F-19F0-4967-84A6-AF49BDF8D0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6457A63-FD14-4969-87B0-3473D9455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F4BAF81-C7B0-470C-ADE2-61464617A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9F077AC-D8C4-4796-8EBC-55E5FD514E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DE84-23DA-464D-AF70-375C063E3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E6B0086-8128-4DEF-AAF6-98C58B42B5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B3EC7C4-3DF2-4DED-8EF3-0D0CF176ED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FB95E83-668A-4BA2-AF9E-D211179D84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2D9163F-3969-4D28-8C6C-B53EFF058C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A17013D-449B-4E09-B716-D607B1C8F2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9F5AC52-3225-4CE8-B6E7-94FC8AC19B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2B29052-F25E-47D0-87E0-CFC7945441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B8A997A-6FD4-4E9C-B55E-9FA5F09BB2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3041C7C-A0C5-4582-9465-F5D5B328B6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51C78FF-3214-4EBD-8762-47B88CC4A4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D9A72-7232-41D1-A4CD-525DEEA7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26040-4293-4564-8E0D-3C784DE79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758C6A4-4A7E-4DD1-B3AB-33280FCB36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F01815A-FEEF-4245-88D0-C4576D8339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C1C6099-F052-4E5E-A2C5-D4ADBE750B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FA1133C-4F15-410B-BC4B-9C77693757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B1D56D1-DC84-4CF2-9DF4-ED614532F2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85E9C05-590E-48E2-B3FC-E91DD3DBC6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8ACEC9D-E8B4-46C1-A692-14011D22B0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479DF42-6F11-4033-9E1D-95EE95883D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1401078-982A-41F8-9BDA-57C80AC6C3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6D1BFB4-0725-4093-9337-2C071189C2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7D26C-31BB-4EB3-8098-D46AB5F1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DCB50B6-AD6B-49FE-B194-DAF9760C0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61FACDF-CEF5-49B7-A3AE-6C3A419232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1F5CB1D-2D4D-4E5B-A311-518003312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CD2B4EC-23F4-423D-80E9-102E5A193A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8C07CF2-80C9-454E-B75E-A5272D207C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82B65C3-77CB-4013-8224-A1DC0FA82E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9EA228E-C57E-4453-9C22-32F12EBF19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FE27A6C7-DDC6-4867-A49D-BFC0434384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EF53E9B-57E7-4932-94F1-300B42A6AF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0A9773A-4E75-48D3-8B8F-0DC57286D6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3A4A5-049A-464D-BE86-76C526B2D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951FBF1-039E-4BAC-9793-8BA62CD06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F7C80DC-48D1-46C7-BDA9-83F40669E7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2AA5EBA-EC47-4C41-81CB-1B6A9669C0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679DCF3-5708-408D-8C81-2FD875562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E0A7148-99BB-450F-A38A-FC2D29B7B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C645D32-26EE-494B-A50C-8FD23F5C5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10D46E9-4B98-41A9-B58B-DEC2A7709E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EE906AC-8CE6-41B1-9201-E38C3BEFB9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804C046-93C9-4BA9-8A20-52376E3378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F49EFFDB-82E5-4445-A8E6-785FAF12D3F0}"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6A34E-B14B-4C48-9991-E3413738D6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8FD388AB-59F1-4F72-AF9F-AFC52CADA15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85901E9A-57EA-44FA-9C45-4CF4ADB83EA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9CAA32CD-0303-44FC-AA28-48E571926F2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5D2B991B-4B88-4304-B713-DF902FC8273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AF6D3F77-4AAD-473F-8FAF-4D9BBAE86D47}"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DB78FD59-2B92-4EF2-AA13-2A141ED5C30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2CD6592-396C-46F9-9C87-D553A20E129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6452AD52-8836-4173-856E-E9B14018233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8F7EBB04-2349-40EE-927B-F31CF3A9731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15CB551F-A6DB-45C4-B427-10527439942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FE761-1673-4B77-949B-221DEEF19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FC2EE699-11BE-4A47-BF4D-7D637DFCA4DE}"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258D7DB0-453A-45E2-B841-8FC40499DF19}"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1CAE9F29-038D-4233-BE20-3C5D81E8CB7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2AC5AE4C-F4B1-418C-95BC-783B4B6A634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810A4AB7-9A3F-4F5A-A2D3-E4495D8306B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C62577CB-2702-44F1-93A8-1D0EA16D19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4C1F4F4A-B71D-4184-8CEA-A3943C540A6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94C1DAC-741B-4DF3-9041-AF0EDA99A4A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C9C414F-F612-4108-B018-CF3698193C6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F179FBD9-99A6-4381-976F-959A58FDD3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7C48B-9F1E-47D2-B317-7AE95F1D47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2EBA0AC2-7CA9-45C8-B13D-1BD51D3126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8B561C77-D4E4-4BAA-9238-07B34EFE5A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BB9F4BA5-C30B-4234-B01D-6DB36210ABAD}"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F30D037-03A6-48C1-B4EE-1906D5671907}"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432900F-A810-4A0B-AA90-38C22DA7FF8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5B234DD-08FC-42EF-9F11-B17325F37A4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1BD9DC3-B70C-46EB-9843-26F56186572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21E59D1-8E7A-40C1-8FCB-9770296775B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F26AB1E-DD97-4440-80A3-030BACA787D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A47A27A-E199-47E2-9A5A-9CF8ABB5503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B89E6-D4DB-495E-B941-BD112653E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801B051-F94C-4749-992D-582D390C7DC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6A0A5D5-1A32-4F3D-ACBB-B1A5CF48757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F1A3060-B6F6-4ADA-845B-4B5A1B939C7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BB3EC24-AB40-450F-B5D0-8494EDF7D53C}"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68E9206F-4235-4D5E-9B04-1BBF5222F66D}"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256ACCE4-BDD0-4E4A-BF60-091C52196951}"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BBBDA06D-B0F5-4910-A655-2619D72BE4A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C988D88-F0EE-47B2-A673-5A09C65FE01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AAA5797-2436-4A2D-AB62-63E14E663BE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5BDDA215-E533-4BA8-A003-10F3404973B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FB3AD-FC0F-48AB-B820-694E3314A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66EF95B-67F1-4BB9-93F0-B40F09DE7A4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B2CA6103-6340-4CEF-8E9D-1E9112D2C1B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6C23B45-0C99-4D03-9581-BB549A81BAF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2BDE516-09AC-4BB7-BC49-F952763ECE8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6A255255-7208-4240-A72A-06C2AB83BCF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77D86B3B-1498-496C-9307-1A6BB63A07AE}"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B340E5A2-36B7-4812-AA45-E396FDA9A7FB}"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12D75FA-C871-4DDF-8AE7-BF155B187D66}"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EDF2EE3F-28BA-44B3-9D4C-B50899CD27D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406CD2F-767D-4501-8D3F-561ECE3851C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FC443F-6491-423C-B546-7359D801B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C73E0BC-487D-4CF0-A2AE-D35404E9EA61}"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1250265-F8ED-4E7A-88A2-5F60D6ED702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70F319D-6027-4B16-9844-5CF6CBCD191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A75DF50-89A3-43F4-B28D-38CC6CCC76C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97546F07-D12B-40FD-920E-D54C13570FD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633C1D8-1E27-4BA3-A12A-012F32C6000F}"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1D011FE-3870-4A1A-A659-527A12E93DD3}"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21BAFCB-D38A-4CD2-8BE0-5A443945D6BD}"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2C46709D-3C22-41D5-8B1A-0226AACD4D4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ECFA8BD-79AF-4C3E-96BF-95AEE4F4231A}"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7929E-6FF0-4C08-8299-02D7E2AD0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CFB5B3D-818C-4E74-94A3-1B9304712DC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78E9F0F-7C7E-4FF8-ADBD-1B76A0C1A73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A2C6495-5E46-48D2-BBE6-EC6CA2676E6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7FDB200-EF90-4359-B562-161226D52C1E}"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B92A244E-8DFA-46C5-B467-A83D1DFD024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D1FCBD3-867D-47F0-B19F-5A2ADFCADA8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AF5B8A2-CB18-497B-B4FD-8E2D462AE44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D436C17-A395-44F6-AF02-7803CC85FE1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BEDC87F-A1A7-4860-8444-5A4E39BD733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4764E364-C8E1-4615-8B06-9BCBB8CBC1CB}"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3D10C-ADB8-4547-968E-4C65164B0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EC86C-0B50-4CA5-A3B1-2985E1062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3481C21-534D-41C2-A40F-5F903D0E43DE}"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E0CE53A4-BAB0-4DBB-A34D-75FA57AAA39B}"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85B29A1-485A-477D-8672-CB4F549A93CA}"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AEA918A-17AD-4559-B75D-1156BDA5DCA4}"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F2837C2B-83E5-4562-9625-0139823956D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A14ED675-BF5D-4578-A692-BD2865C9490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A4C0BA73-EA48-456D-96B9-B70709E00334}"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5EE4A29-B1D2-4FEC-B9D0-05B9C9EB1BE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13537DE-2B0B-4FE3-B2C6-9E6D2A25E950}"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FD40676-7A72-49B0-AAC1-CF9D8FB3D23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C3B12-5EFF-4C36-952A-7800F91DC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CB4D5E6F-E780-496E-8017-9FDD012C1DE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4B1D00A6-A226-47E7-88F4-3B7283608BC3}"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9E5AE369-11C6-4E53-8147-32BAEAE812A7}"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6771D6C3-86B9-426B-8088-175D2A53E110}"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2521C884-242F-4262-88DF-2DCE6DA49AC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BF89D4F2-6E00-4AEC-8F1F-0F354381EF4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BF84114C-7137-4FCA-ACEB-1CC4BEA88D8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EC6EC1DF-918C-43C9-B9EE-E831F4484FE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8B4C1A54-1FA2-4AF8-A07A-DBBA5D3A3516}"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1B7A1FA-A7D9-403E-A6EF-89A37797C16E}"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699D2-F220-4D7B-BC7B-19EC02B35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9FC4957-17B6-4A70-BA3E-A3109704343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3DA722A4-4AA5-4E70-903B-5AFD4A81A8CD}"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66D3B381-8753-47C1-98A2-7DFC2BBBB6D4}"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A2773CC8-9A07-4FCC-854D-FB3E6A275FDC}"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654BF33A-7CA8-443B-B8FC-E63EE5EAB30B}"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8E1BAF66-2258-4E40-8059-5E8777FB468C}"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E228C2E-AFCE-4488-84B1-06DDDFA64071}"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00189F24-5F03-442A-AD00-35CB0F34A199}"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374FFBE3-8E8C-4565-8738-9D3C061CC020}"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7EA1D272-6749-40BB-B73A-FAC3A4EBB19F}"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39C0C-354A-4D24-9DE3-10F6B2A7A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8C02E4E7-ABFD-4ADF-ABE9-335BD9B0DAF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DA98A84B-55D4-46EF-8CEE-C7EEDB0452A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6B92A96-E869-4070-9926-9E8906ABC91B}"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EBD41E3-6077-4882-9B18-3B662ED84240}"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109ABAC-FCC7-4C86-AF6E-DEC591C05AE0}"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AD2E8AAE-D76F-4BBF-905A-063FAE8864B6}"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408BA73D-DAF7-4A9C-8A13-6298175E33C8}"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B0814031-635C-4B96-B0CC-F27CA468C1FD}"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8978E465-987C-475F-89B7-2142B8FE658B}"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B93A0C35-75AD-4276-A7C7-6D898A230530}"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FF5D8-1216-443A-977C-80CC7B7C8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311E0542-6F85-4FF1-B5BC-A474647FC95D}"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654C92C5-EA56-42EA-8938-DFB876AC8D8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460F5D68-6068-450D-A9A1-C2E958451184}"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9E03F33-A888-4BE1-8505-8F491343241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C5605E9B-6F16-4864-835D-39C4E7FD68A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E2891B53-A404-4C3C-B114-D4BDFE3D35D5}"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F36BDABC-9035-4BD5-8FF8-3266748121DD}"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66FF0AF5-8437-439E-9E2F-C3E24CAFAC42}"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AA5F672A-DA7C-4757-A16B-2EFD0F7A5DD4}"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446B4233-FDF6-4BB1-A668-DAFE2A5349F7}"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3DADB3-91CE-4618-AAB2-B8A7C8B7E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9761318E-10E9-42AA-8A60-12689E013515}"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B626AE42-94C8-41B3-8D66-E22A36703428}"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244017F-7093-4ECD-BE7A-D6EA53506916}"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23546364-7604-4D2A-8541-B076B35E743F}"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2CC1EF5F-4DC8-43EB-99F6-61E75D163AF2}"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D8F71D3-6FF0-4F8E-9D2E-94CD7F2C5A5C}"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1A472104-79B3-4350-988D-1A6005BC04BE}"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271B8BA-DE74-4F2F-AF1F-273B03D814CA}"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3A87B7D4-B167-4C1A-BBC8-C493C6E04C5D}"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643A6E63-4FE2-454A-A9CD-8C08F8BB23FD}"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D18C44-2A1C-434F-B407-ED0277920D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1E1F38F1-C34F-40C3-BB18-2485EE436B05}"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EF5581AE-137D-4223-BBEC-D6E815737BEC}"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B7B7847-9F9D-45D3-A6D6-648BF1935501}"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0190D39B-9333-458C-B3CE-30FD8E7E077F}"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B7FF8E91-557C-427F-A476-C80050D60BE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56A1DBE8-1591-4A05-964B-CBEA540A1D1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DF3BA64-AD79-4E8B-9530-BF19063B837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51C65FE8-65F7-450C-BC94-BFA358013DDC}"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41EC762-7F0B-40FA-8327-000DF9B79695}"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2DF31793-738D-42AA-B43F-EE48E8D93C05}"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33355-8D3B-42D1-A57D-8CBCF9E206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76211D0E-9441-4FA4-9579-69E2C4E22B1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B486CFEF-A52E-40C9-8DF7-D64DFDE1EC9F}"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C9B93E1C-E1B8-4462-875C-78E59F5E01A1}"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DE5A0A98-7136-48A5-987F-C4CBBE72F544}"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C260E218-2EAA-4A54-99DE-5875F97C3908}"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3597F8CA-4CE8-44DB-88FE-F730491A622E}"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1832E2E-3566-4234-975A-B0D27A7F380E}"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EB444E8A-B53A-47B6-B9A0-0A59492407C6}"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31FD384C-8F8A-4464-BECA-3F2100C046AD}"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29B755A2-577C-43CE-9440-988C987C593F}"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735D0-BAA3-4D1F-9E84-9F612A5FF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7D4644A-A81A-429E-A9F2-8204C1706438}"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299F921-AD87-4C46-90F2-A4AEE24E1017}"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FB36A3DC-FDF2-4AE5-99C0-554334720599}"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E9506BB3-9655-4A79-9FA2-B2F50D8337A8}"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51463AF3-CB6D-441E-B7B7-773AA31F3A25}"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69F3737A-6CA7-4F0F-85B5-256D965B1EDD}"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EC30E290-9FD3-4297-BB03-06A751D73D37}"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B858AFFA-A5BA-4CC6-AD70-AC5D87231BB5}"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CF5B72E-453B-4005-8AEF-B79C38CCE655}"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0AD9BB1B-21C1-41F4-BB7B-C6EDE53F64A2}"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5D77B0-E7CC-45F7-B3C8-E08835F40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455E3571-D92C-4122-903E-9E355BDADAEC}"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CCEE354-DE8C-4C80-B5D0-703D3F528075}"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2A0FE713-D8EC-49A1-92CB-A6ADE7D29CE0}"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1F03BA12-BB8B-43D9-AC82-3E71E161610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F8F79025-41BC-44E6-81E5-14049FC7F945}"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3267898A-BC7A-49B3-A321-58F699B827C1}"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03D32FFC-D37A-4277-9471-12459052A5E7}"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7F3484F2-2DCC-47CE-8D20-6C6EF16AAEB2}"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206AC00F-6253-41B1-9EA2-8A938F53B9B4}"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CA1E18EF-159B-4801-8CD7-F91C947A4D9B}"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7609-38A9-4D3E-AEA0-26F30E1EB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202E5-3D38-4B59-9622-E3072965C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BECE1A67-9A28-4111-A42D-32A2784DB893}"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D8F0513A-0E5C-4E3D-A78D-A1D366AC89C2}"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68FDE4C5-30F2-4B75-AC2A-16C557D5A8E5}"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F38A5D95-AFAA-4E28-9D17-6C3FCD0877DC}"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06D195F4-5AB3-478E-AEEA-5C77323A5281}"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0918FFCF-40DD-491D-94EE-64E116892F97}"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F410AFAA-A25F-45D3-8D8C-E92E3FD2C27D}"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855759B6-BDFC-478A-A871-97E4406B845F}"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61331600-C2BA-43F1-82B3-C2CB3BDF6FDE}"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CDBE0520-BE99-4D01-88E5-4CB6657D83FE}"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273AB-00B4-48E0-AA96-4C035D56C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5ED232BA-D202-4BA5-BCDC-DD401B6C280F}"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60951A6D-E75E-4AE7-B0AE-C04DC54FD406}"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4503D723-DF9F-489E-96E8-B1BFFCFA400D}"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81DA4397-EBD4-4BB1-8799-7EA161E207F0}"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413201E8-3893-4E20-A4B8-6950ED7B7AAC}"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0F9E598-A081-4D15-949F-7FC43DFC7623}"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109EBD3-41F9-4DCC-8EA7-C3E4CFFB822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655484FA-01A1-4DDF-92C0-82EC2D559A96}"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AA5E0B6E-6BFD-42C1-90AF-6948D55F7E6C}"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C5D2998E-18A4-4A25-B8FD-0D2134F93650}"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DC599-A4AC-4A22-B37A-760105403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68E80515-BCFD-4E83-AFD1-49E4FBD8E354}"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4BFBA616-F587-4D4D-B478-C91BF4077E37}"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7DFD5B2D-BA3B-4A42-9F62-4A664ACB7A5E}"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EF0FEC34-ABCD-42C7-B699-0F8F8FBE312B}"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79E0BAAD-863E-4D12-913F-5017CA1C0DC5}"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A37ADA31-0ADF-4975-8024-D55289CE316D}"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5247D915-A2A5-4A3B-8C88-75FF3192E032}"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A1EF8F18-BF65-45C8-BB6C-B9048D20EA61}"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9E14E43-1662-4298-A43B-0B22C548D7B4}"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28BF55EA-D1F5-412D-BE93-45F365440355}"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D97757-F5EA-41E5-B64B-6B7F62B20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52B9E99F-E0E8-45BC-A211-591B8C53E440}"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C3F2349A-D498-4562-8E0C-97853FEC1C78}"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142644D1-EB1D-4C45-B5EA-4E226EAEF531}"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0C196267-52B9-4AE2-9215-8FB33F97A9E2}"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AD0416C5-49D8-47B6-BF10-AF4BC7D32425}"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1D706174-E9D1-4B84-91B5-C778D82705A4}"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CC46E75E-66B9-41C9-B8E1-0CD6AF3FB421}"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F8BFE70E-4555-4DA1-9215-025F6F3CB5EE}"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ADC38B6F-D000-4BD6-98C6-70B09A23EF1D}"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2C89009-8985-4A0C-94A5-A3227FBCD3BC}"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3FB34-FCF2-4D38-8301-E6545D72A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24B09AFB-A178-4D29-BF6A-97D093C0EA6D}"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217EBA51-71D9-48A2-8E6E-5F76E461F6C6}"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76D7A3C6-05C7-4F4D-A258-3A299A906671}"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52BDC1C0-C5F3-444D-8408-08D07B4429A0}"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27B1ED4B-5151-4D38-836B-80C6DDC04BAB}"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D82EB0E2-4460-48BB-BF2D-0B3380AB33A4}"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00BA8AE4-E38B-440B-A592-2081A71D1E43}"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CA87FB90-3CF5-4CBA-81A9-18EA9632D19F}"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70251F3E-9663-43CB-8D82-B4005B39D5B6}"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71A88FF3-07DA-4E1C-B600-F4E569FD3667}"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93870-26D8-4A18-BA18-DE4B21838D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94F48CC4-CE8F-48E0-ABA7-7A365D70A087}"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1EC48C3-97C7-41BB-A771-E856107E049D}"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F3C32841-D713-4749-928C-E6622A3246C3}"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7B2ED9D-8BB6-486F-A8C3-A5648BC4078F}"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9CF1375E-8BD4-4324-B28E-CB8624B8BEBB}"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075C54E3-8717-4055-A1BD-2EFE62F3FC20}"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BC61AFA2-57F8-4B3B-BFD6-28BFEABF8ADB}"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39598EBF-62CD-45C6-8AD6-E28F4359BA57}"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74E9BE22-1D2D-43F4-B467-8C50D8150D1E}"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921646BE-C605-449E-B3E3-C8CDE790F97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A7F33-3D18-46CE-AD42-18A8B29A8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FB4CCD5F-D2ED-4CA3-AFEB-8CA0C47F9A10}"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B298487B-46E0-4729-8254-DFA33CC690D9}"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C1B25BE6-E147-4076-B291-5ED9A8DB6EDB}"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0127CCFE-0B8C-42C6-895C-214309E5FE62}"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532CC4E3-7DDB-4FF0-B0CB-6931D94BDA4E}"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A1E05A67-EE7C-4F47-9C85-F165F2ACC8C4}"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8C60DBAA-9BE8-42B5-969D-9BB0844497F2}"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B850D373-206A-4FF4-9627-FF6DF53B34D2}"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3826DC88-B87C-40F7-B1FB-105C224EC6E1}"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7F95412F-226C-4CA0-96E8-D29C65CBA0C0}"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2D4325-7170-48E3-9F95-0365663BD1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4A713BCB-93B3-4821-9D1C-CE3304E26EF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5F84A06F-E504-46A2-AEC7-8D3CD1F26B2A}"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85B707BD-BA14-44A6-A26F-3278EC9C50BF}"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21DFDB28-A6E5-4F94-80F5-6A8CB49E8580}"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47CAFCD5-320D-49FF-A797-FBABD0913428}"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A94B68A9-7347-49D1-88D9-77661DD8A4E3}"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3811FF9-53F2-43F5-8836-0208706C8D9E}"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630BAF2-743B-4246-A037-16CE964F5CC9}"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4BD39063-67DE-4DEE-945C-A30DA5E0FF0B}"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7DC91199-19D7-4DCB-A81F-D885087C9803}"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590629-CBFC-4766-AC43-6F4FAD217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5AB6FFD5-E14B-4EE2-BFE9-457FFD9220EF}"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48DD5-61B0-4D73-99EC-08E112120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C849D-ECC7-4723-8D17-F6C5CA23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A39CB-ECB7-4484-B651-A98E44D6F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572723-A47B-4FFD-95B7-79B99588C4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7B242C-F614-44BC-A9E0-C04C993D6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96799B-7043-4F48-A40E-88DB8AFBF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8CA0E5-0509-4413-A15D-786EA5BC36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A098C-2D5C-44F0-BD98-D3C8CC785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2BBA3-506E-4E6E-9AA1-1C7AF5A33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19C63-3ED7-4ED0-BC9F-A4CB54751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3C58-4CBC-482C-BF99-B8AE9FDB8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25E30-614D-4382-97EA-F89868805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25DEB-1C17-47CD-9001-FE43E1B77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A36C3C-1D32-4CB8-84DF-5E9558094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678CE5-002A-47DC-9A41-CD96DD8B0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55A9D8-3989-49E9-8973-FFA19506C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ED84D6-74CE-4751-BF72-91AC508AC7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F560A-78D9-4362-B625-F9263F6C6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3C9F2-A6B6-43BE-9440-8ED0900CEE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A9330A-33AC-4537-88EE-859C15E18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815D2C-EC7C-4102-95A7-565B30083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527E-DF79-4E44-9BFE-008607A93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48D5E0-CF38-4E0C-B725-9B18CDAD7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31B2C-7119-4F04-8171-4CC6C62BF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E1DE7-A527-4C15-ADD6-43B9EB93B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80D15-A74F-43E5-B698-92F094A0A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FB113-7C47-477E-A356-987C2D13D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4EEBDD-476D-4E7F-A371-D629AB7262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B062C1-C982-45F3-A42D-6E33FD9071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CABDB04-F62B-4A73-B41F-8723A635A9EB}"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58EE52A-0237-45B8-930B-3108B6CFE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EA12491-5C90-41A8-9D76-558438EEA802}"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68AB-BD6C-4AF0-B783-590C73E2B5EE}"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425B-DB91-4FF0-80DC-CD72F835206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1D1C-1C6A-4835-9AB8-F6C7412D0F0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91E8-22C6-4A8F-8CAB-B6445D3FD39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4964-043B-41E1-9301-01377DD0BC96}"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9E2D-2FC2-4A38-AD20-A89D957A2B8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D6E0-A1CF-482C-8D69-D7AA17C88576}"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D9A3-3D99-4069-A9BB-A1698204126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E3F5-DD2B-4CC9-8062-56A1357468D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EB4C-53A8-42F6-B055-03B7144DD1A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51EA-43BB-4A46-9344-9D863CCBD906}"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624A-AF06-41D0-AB0F-5CC133EF85E0}"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DBF3-2E1C-4D1E-AE88-E2FC76A918AE}"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44AF-F90A-400E-8087-4BAB0DAC518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B1FE-CAE5-490F-96B4-F9AE84E86C89}"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D898-2046-4D7D-9A75-A9222F77866D}"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9F78-1CBC-438F-AF04-4D5D91161B7A}"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F074-93DE-4844-A379-9EC9898F0A4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C3E6-9E2F-4BEA-88BD-18A7E9DB9B15}"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7FEE-0C1C-4780-94EB-A17CDD75DF7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56C4-54A0-4D53-838F-63277E084AB9}"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35DE-69BA-4606-A40E-FC078D9A51F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AF6F-1C90-41BE-95BA-17950BA1E5A5}"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446D-6D16-411D-97A0-6F9C37C74261}"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FB83-17C2-444C-97F9-D321153C2B83}"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3218-A887-4A56-9AAF-47EA621740C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850A1-3A70-4461-B780-63D1AD44FD61}"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0AFB-AA12-4A6F-B6B1-CB5C68ACB86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17E6-615A-457A-BF2B-3B648B4CC861}"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C1D9-CFCD-41D3-BC72-A590582648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1AB9-BE32-458D-ABD4-0FCA7904A734}"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472D-1696-4F5A-B9E1-F668B620C9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3F76-A286-4637-9518-9CF5336C4E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6C9B-2BCB-46D4-9525-23131410A9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E4F1-700C-4A13-9ABA-37FCCBBE0B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447F-60F7-4EB0-9771-88EAE1D474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4015-7217-4137-995F-5DAFF3C899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4E089-DE29-4D43-B8FF-E92F4B0D74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110F-53F4-4D66-BDC5-6B82999685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A42B-CEDF-4190-A064-382FCAC776CE}"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7A99-E84D-41F1-A148-13E1FBF3C9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901B-DD85-4B00-A896-11F36BC8D8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6E13-83DE-4875-AF93-35756D9B872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2380-6A9A-4DE2-824B-38ED42C89F9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slideLayout" Target="../slideLayouts/slideLayout3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7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7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7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7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42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https://docs.google.com/spreadsheet/viewform?hl=en_US&amp;formkey=dDJabGkzbFAxLWJHbXhxSUFQcmo4ZWc6MQ#gid=0" TargetMode="External"/><Relationship Id="rId3" Type="http://schemas.openxmlformats.org/officeDocument/2006/relationships/slideLayout" Target="../slideLayouts/slideLayout36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36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012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orth Carolina Teacher Evaluation  Online Training</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tford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tember 16,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1"/>
              </a:rPr>
              <a:t>http://region1rttt.wikispaces.co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86"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90"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1"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2"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3"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5"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5"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Evaluator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6"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698"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ow Would You Rate the Standards?</a:t>
            </a:r>
            <a:endParaRPr b="0" lang="en-US" sz="3600" spc="-1" strike="noStrike">
              <a:solidFill>
                <a:srgbClr val="000000"/>
              </a:solidFill>
              <a:latin typeface="Calibri"/>
            </a:endParaRPr>
          </a:p>
        </p:txBody>
      </p:sp>
      <p:sp>
        <p:nvSpPr>
          <p:cNvPr id="1700"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1"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703"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ssessing Inter-Rater Reliability</a:t>
            </a:r>
            <a:endParaRPr b="0" lang="en-US" sz="4400" spc="-1" strike="noStrike">
              <a:solidFill>
                <a:srgbClr val="000000"/>
              </a:solidFill>
              <a:latin typeface="Calibri"/>
            </a:endParaRPr>
          </a:p>
        </p:txBody>
      </p:sp>
      <p:sp>
        <p:nvSpPr>
          <p:cNvPr id="1705" name=""/>
          <p:cNvSpPr txBox="1"/>
          <p:nvPr/>
        </p:nvSpPr>
        <p:spPr>
          <a:xfrm>
            <a:off x="380520" y="1828800"/>
            <a:ext cx="8458200" cy="4038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essment Directi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cate you click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dentify the rating for the teaching attributes on each slid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cu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YOUR FOCUS</a:t>
            </a:r>
            <a:br>
              <a:rPr sz="4400"/>
            </a:br>
            <a:endParaRPr b="0" lang="en-US" sz="4400" spc="-1" strike="noStrike">
              <a:solidFill>
                <a:srgbClr val="000000"/>
              </a:solidFill>
              <a:latin typeface="Calibri"/>
            </a:endParaRPr>
          </a:p>
        </p:txBody>
      </p:sp>
      <p:sp>
        <p:nvSpPr>
          <p:cNvPr id="170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integration of technology.</a:t>
            </a:r>
            <a:endParaRPr b="0" lang="en-US" sz="4000" spc="-1" strike="noStrike">
              <a:solidFill>
                <a:srgbClr val="000000"/>
              </a:solidFill>
              <a:latin typeface="Calibri"/>
            </a:endParaRPr>
          </a:p>
        </p:txBody>
      </p:sp>
      <p:graphicFrame>
        <p:nvGraphicFramePr>
          <p:cNvPr id="1709" name="TPChart"/>
          <p:cNvGraphicFramePr/>
          <p:nvPr/>
        </p:nvGraphicFramePr>
        <p:xfrm>
          <a:off x="4572000" y="1714680"/>
          <a:ext cx="4572000" cy="5143320"/>
        </p:xfrm>
        <a:graphic>
          <a:graphicData uri="http://schemas.openxmlformats.org/presentationml/2006/ole">
            <p:oleObj r:id="rId1" spid="">
              <p:embed/>
              <p:pic>
                <p:nvPicPr>
                  <p:cNvPr id="1710"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11"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1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student scores on assessment to modify lessons each day to meet student needs.</a:t>
            </a:r>
            <a:endParaRPr b="0" lang="en-US" sz="4000" spc="-1" strike="noStrike">
              <a:solidFill>
                <a:srgbClr val="000000"/>
              </a:solidFill>
              <a:latin typeface="Calibri"/>
            </a:endParaRPr>
          </a:p>
        </p:txBody>
      </p:sp>
      <p:graphicFrame>
        <p:nvGraphicFramePr>
          <p:cNvPr id="1713" name="TPChart"/>
          <p:cNvGraphicFramePr/>
          <p:nvPr/>
        </p:nvGraphicFramePr>
        <p:xfrm>
          <a:off x="4572000" y="1714680"/>
          <a:ext cx="4572000" cy="5143320"/>
        </p:xfrm>
        <a:graphic>
          <a:graphicData uri="http://schemas.openxmlformats.org/presentationml/2006/ole">
            <p:oleObj r:id="rId1" spid="">
              <p:embed/>
              <p:pic>
                <p:nvPicPr>
                  <p:cNvPr id="1714"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15" name="PlaceHolder 2"/>
          <p:cNvSpPr>
            <a:spLocks noGrp="1"/>
          </p:cNvSpPr>
          <p:nvPr>
            <p:ph/>
          </p:nvPr>
        </p:nvSpPr>
        <p:spPr>
          <a:xfrm>
            <a:off x="380880" y="25909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1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es and implements new technologies into lessons consistently.</a:t>
            </a:r>
            <a:endParaRPr b="0" lang="en-US" sz="4000" spc="-1" strike="noStrike">
              <a:solidFill>
                <a:srgbClr val="000000"/>
              </a:solidFill>
              <a:latin typeface="Calibri"/>
            </a:endParaRPr>
          </a:p>
        </p:txBody>
      </p:sp>
      <p:graphicFrame>
        <p:nvGraphicFramePr>
          <p:cNvPr id="1717" name="TPChart"/>
          <p:cNvGraphicFramePr/>
          <p:nvPr/>
        </p:nvGraphicFramePr>
        <p:xfrm>
          <a:off x="4572000" y="2044800"/>
          <a:ext cx="4572000" cy="4813200"/>
        </p:xfrm>
        <a:graphic>
          <a:graphicData uri="http://schemas.openxmlformats.org/presentationml/2006/ole">
            <p:oleObj r:id="rId1" spid="">
              <p:embed/>
              <p:pic>
                <p:nvPicPr>
                  <p:cNvPr id="1718" name="TPChart" descr=""/>
                  <p:cNvPicPr/>
                  <p:nvPr/>
                </p:nvPicPr>
                <p:blipFill>
                  <a:blip r:embed="rId2"/>
                  <a:stretch/>
                </p:blipFill>
                <p:spPr>
                  <a:xfrm>
                    <a:off x="4572000" y="2044800"/>
                    <a:ext cx="4572000" cy="4813200"/>
                  </a:xfrm>
                  <a:prstGeom prst="rect">
                    <a:avLst/>
                  </a:prstGeom>
                  <a:ln w="0">
                    <a:noFill/>
                  </a:ln>
                </p:spPr>
              </p:pic>
            </p:oleObj>
          </a:graphicData>
        </a:graphic>
      </p:graphicFrame>
      <p:sp>
        <p:nvSpPr>
          <p:cNvPr id="1719" name="PlaceHolder 2"/>
          <p:cNvSpPr>
            <a:spLocks noGrp="1"/>
          </p:cNvSpPr>
          <p:nvPr>
            <p:ph/>
          </p:nvPr>
        </p:nvSpPr>
        <p:spPr>
          <a:xfrm>
            <a:off x="380880" y="25909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1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use of student learning styles.</a:t>
            </a:r>
            <a:endParaRPr b="0" lang="en-US" sz="4000" spc="-1" strike="noStrike">
              <a:solidFill>
                <a:srgbClr val="000000"/>
              </a:solidFill>
              <a:latin typeface="Calibri"/>
            </a:endParaRPr>
          </a:p>
        </p:txBody>
      </p:sp>
      <p:graphicFrame>
        <p:nvGraphicFramePr>
          <p:cNvPr id="1721" name="TPChart"/>
          <p:cNvGraphicFramePr/>
          <p:nvPr/>
        </p:nvGraphicFramePr>
        <p:xfrm>
          <a:off x="4572000" y="1714680"/>
          <a:ext cx="4572000" cy="5143320"/>
        </p:xfrm>
        <a:graphic>
          <a:graphicData uri="http://schemas.openxmlformats.org/presentationml/2006/ole">
            <p:oleObj r:id="rId1" spid="">
              <p:embed/>
              <p:pic>
                <p:nvPicPr>
                  <p:cNvPr id="1722"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23" name="PlaceHolder 2"/>
          <p:cNvSpPr>
            <a:spLocks noGrp="1"/>
          </p:cNvSpPr>
          <p:nvPr>
            <p:ph/>
          </p:nvPr>
        </p:nvSpPr>
        <p:spPr>
          <a:xfrm>
            <a:off x="380880" y="28954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1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very comfortable using the NCEES to complete an observation, a teacher’s PDP, and self-assessment.</a:t>
            </a:r>
            <a:endParaRPr b="0" lang="en-US" sz="3600" spc="-1" strike="noStrike">
              <a:solidFill>
                <a:srgbClr val="000000"/>
              </a:solidFill>
              <a:latin typeface="Calibri"/>
            </a:endParaRPr>
          </a:p>
        </p:txBody>
      </p:sp>
      <p:graphicFrame>
        <p:nvGraphicFramePr>
          <p:cNvPr id="1618" name="TPChart"/>
          <p:cNvGraphicFramePr/>
          <p:nvPr/>
        </p:nvGraphicFramePr>
        <p:xfrm>
          <a:off x="4572000" y="1714680"/>
          <a:ext cx="4572000" cy="5143320"/>
        </p:xfrm>
        <a:graphic>
          <a:graphicData uri="http://schemas.openxmlformats.org/presentationml/2006/ole">
            <p:oleObj r:id="rId1" spid="">
              <p:embed/>
              <p:pic>
                <p:nvPicPr>
                  <p:cNvPr id="1619"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620" name="PlaceHolder 2"/>
          <p:cNvSpPr>
            <a:spLocks noGrp="1"/>
          </p:cNvSpPr>
          <p:nvPr>
            <p:ph/>
          </p:nvPr>
        </p:nvSpPr>
        <p:spPr>
          <a:xfrm>
            <a:off x="380880" y="2514240"/>
            <a:ext cx="41148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s and encourages students and parents in understanding of learning styles and differentiation.</a:t>
            </a:r>
            <a:endParaRPr b="0" lang="en-US" sz="4000" spc="-1" strike="noStrike">
              <a:solidFill>
                <a:srgbClr val="000000"/>
              </a:solidFill>
              <a:latin typeface="Calibri"/>
            </a:endParaRPr>
          </a:p>
        </p:txBody>
      </p:sp>
      <p:graphicFrame>
        <p:nvGraphicFramePr>
          <p:cNvPr id="1725" name="TPChart"/>
          <p:cNvGraphicFramePr/>
          <p:nvPr/>
        </p:nvGraphicFramePr>
        <p:xfrm>
          <a:off x="4572000" y="1714680"/>
          <a:ext cx="4572000" cy="5143320"/>
        </p:xfrm>
        <a:graphic>
          <a:graphicData uri="http://schemas.openxmlformats.org/presentationml/2006/ole">
            <p:oleObj r:id="rId1" spid="">
              <p:embed/>
              <p:pic>
                <p:nvPicPr>
                  <p:cNvPr id="1726"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27" name="PlaceHolder 2"/>
          <p:cNvSpPr>
            <a:spLocks noGrp="1"/>
          </p:cNvSpPr>
          <p:nvPr>
            <p:ph/>
          </p:nvPr>
        </p:nvSpPr>
        <p:spPr>
          <a:xfrm>
            <a:off x="380880" y="28954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1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ducts staff development and presents learned information to staff.</a:t>
            </a:r>
            <a:endParaRPr b="0" lang="en-US" sz="4000" spc="-1" strike="noStrike">
              <a:solidFill>
                <a:srgbClr val="000000"/>
              </a:solidFill>
              <a:latin typeface="Calibri"/>
            </a:endParaRPr>
          </a:p>
        </p:txBody>
      </p:sp>
      <p:graphicFrame>
        <p:nvGraphicFramePr>
          <p:cNvPr id="1729" name="TPChart"/>
          <p:cNvGraphicFramePr/>
          <p:nvPr/>
        </p:nvGraphicFramePr>
        <p:xfrm>
          <a:off x="4508640" y="1905120"/>
          <a:ext cx="4572000" cy="4889520"/>
        </p:xfrm>
        <a:graphic>
          <a:graphicData uri="http://schemas.openxmlformats.org/presentationml/2006/ole">
            <p:oleObj r:id="rId1" spid="">
              <p:embed/>
              <p:pic>
                <p:nvPicPr>
                  <p:cNvPr id="1730" name="TPChart" descr=""/>
                  <p:cNvPicPr/>
                  <p:nvPr/>
                </p:nvPicPr>
                <p:blipFill>
                  <a:blip r:embed="rId2"/>
                  <a:stretch/>
                </p:blipFill>
                <p:spPr>
                  <a:xfrm>
                    <a:off x="4508640" y="1905120"/>
                    <a:ext cx="4572000" cy="4889520"/>
                  </a:xfrm>
                  <a:prstGeom prst="rect">
                    <a:avLst/>
                  </a:prstGeom>
                  <a:ln w="0">
                    <a:noFill/>
                  </a:ln>
                </p:spPr>
              </p:pic>
            </p:oleObj>
          </a:graphicData>
        </a:graphic>
      </p:graphicFrame>
      <p:sp>
        <p:nvSpPr>
          <p:cNvPr id="1731" name="PlaceHolder 2"/>
          <p:cNvSpPr>
            <a:spLocks noGrp="1"/>
          </p:cNvSpPr>
          <p:nvPr>
            <p:ph/>
          </p:nvPr>
        </p:nvSpPr>
        <p:spPr>
          <a:xfrm>
            <a:off x="38088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not attend staff meetings on a regular basis</a:t>
            </a:r>
            <a:r>
              <a:rPr b="0" lang="en-US" sz="4400" spc="-1" strike="noStrike">
                <a:solidFill>
                  <a:srgbClr val="000000"/>
                </a:solidFill>
                <a:latin typeface="Calibri"/>
              </a:rPr>
              <a:t>.</a:t>
            </a:r>
            <a:endParaRPr b="0" lang="en-US" sz="4400" spc="-1" strike="noStrike">
              <a:solidFill>
                <a:srgbClr val="000000"/>
              </a:solidFill>
              <a:latin typeface="Calibri"/>
            </a:endParaRPr>
          </a:p>
        </p:txBody>
      </p:sp>
      <p:graphicFrame>
        <p:nvGraphicFramePr>
          <p:cNvPr id="1733" name="TPChart"/>
          <p:cNvGraphicFramePr/>
          <p:nvPr/>
        </p:nvGraphicFramePr>
        <p:xfrm>
          <a:off x="4508640" y="1650960"/>
          <a:ext cx="4572000" cy="5143680"/>
        </p:xfrm>
        <a:graphic>
          <a:graphicData uri="http://schemas.openxmlformats.org/presentationml/2006/ole">
            <p:oleObj r:id="rId1" spid="">
              <p:embed/>
              <p:pic>
                <p:nvPicPr>
                  <p:cNvPr id="17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735"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ages students in high level lessons such as Paideia, Socratic Seminars, and Literacy Circles.</a:t>
            </a:r>
            <a:endParaRPr b="0" lang="en-US" sz="4000" spc="-1" strike="noStrike">
              <a:solidFill>
                <a:srgbClr val="000000"/>
              </a:solidFill>
              <a:latin typeface="Calibri"/>
            </a:endParaRPr>
          </a:p>
        </p:txBody>
      </p:sp>
      <p:graphicFrame>
        <p:nvGraphicFramePr>
          <p:cNvPr id="1737" name="TPChart"/>
          <p:cNvGraphicFramePr/>
          <p:nvPr/>
        </p:nvGraphicFramePr>
        <p:xfrm>
          <a:off x="4508640" y="1676520"/>
          <a:ext cx="4572000" cy="5118120"/>
        </p:xfrm>
        <a:graphic>
          <a:graphicData uri="http://schemas.openxmlformats.org/presentationml/2006/ole">
            <p:oleObj r:id="rId1" spid="">
              <p:embed/>
              <p:pic>
                <p:nvPicPr>
                  <p:cNvPr id="1738" name="TPChart" descr=""/>
                  <p:cNvPicPr/>
                  <p:nvPr/>
                </p:nvPicPr>
                <p:blipFill>
                  <a:blip r:embed="rId2"/>
                  <a:stretch/>
                </p:blipFill>
                <p:spPr>
                  <a:xfrm>
                    <a:off x="4508640" y="1676520"/>
                    <a:ext cx="4572000" cy="5118120"/>
                  </a:xfrm>
                  <a:prstGeom prst="rect">
                    <a:avLst/>
                  </a:prstGeom>
                  <a:ln w="0">
                    <a:noFill/>
                  </a:ln>
                </p:spPr>
              </p:pic>
            </p:oleObj>
          </a:graphicData>
        </a:graphic>
      </p:graphicFrame>
      <p:sp>
        <p:nvSpPr>
          <p:cNvPr id="1739" name="PlaceHolder 2"/>
          <p:cNvSpPr>
            <a:spLocks noGrp="1"/>
          </p:cNvSpPr>
          <p:nvPr>
            <p:ph/>
          </p:nvPr>
        </p:nvSpPr>
        <p:spPr>
          <a:xfrm>
            <a:off x="304920" y="28195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How Would You Rate this Teacher?</a:t>
            </a:r>
            <a:endParaRPr b="0" lang="en-US" sz="4400" spc="-1" strike="noStrike">
              <a:solidFill>
                <a:srgbClr val="000000"/>
              </a:solidFill>
              <a:latin typeface="Calibri"/>
            </a:endParaRPr>
          </a:p>
        </p:txBody>
      </p:sp>
      <p:sp>
        <p:nvSpPr>
          <p:cNvPr id="1741"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How Would You Rate this Teacher?</a:t>
            </a:r>
            <a:endParaRPr b="0" lang="en-US" sz="4400" spc="-1" strike="noStrike">
              <a:solidFill>
                <a:srgbClr val="000000"/>
              </a:solidFill>
              <a:latin typeface="Calibri"/>
            </a:endParaRPr>
          </a:p>
        </p:txBody>
      </p:sp>
      <p:graphicFrame>
        <p:nvGraphicFramePr>
          <p:cNvPr id="1743" name="TPChart"/>
          <p:cNvGraphicFramePr/>
          <p:nvPr/>
        </p:nvGraphicFramePr>
        <p:xfrm>
          <a:off x="4508640" y="1650960"/>
          <a:ext cx="4572000" cy="5143680"/>
        </p:xfrm>
        <a:graphic>
          <a:graphicData uri="http://schemas.openxmlformats.org/presentationml/2006/ole">
            <p:oleObj r:id="rId1" spid="">
              <p:embed/>
              <p:pic>
                <p:nvPicPr>
                  <p:cNvPr id="174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745" name="PlaceHolder 2"/>
          <p:cNvSpPr>
            <a:spLocks noGrp="1"/>
          </p:cNvSpPr>
          <p:nvPr>
            <p:ph/>
          </p:nvPr>
        </p:nvSpPr>
        <p:spPr>
          <a:xfrm>
            <a:off x="533520" y="182880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e Sixth Standard for Teachers:</a:t>
            </a:r>
            <a:endParaRPr b="0" lang="en-US" sz="4400" spc="-1" strike="noStrike">
              <a:solidFill>
                <a:srgbClr val="000000"/>
              </a:solidFill>
              <a:latin typeface="Calibri"/>
            </a:endParaRPr>
          </a:p>
        </p:txBody>
      </p:sp>
      <p:pic>
        <p:nvPicPr>
          <p:cNvPr id="1747"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he Eighth Standard for Administrators:</a:t>
            </a:r>
            <a:endParaRPr b="0" lang="en-US" sz="3600" spc="-1" strike="noStrike">
              <a:solidFill>
                <a:srgbClr val="000000"/>
              </a:solidFill>
              <a:latin typeface="Calibri"/>
            </a:endParaRPr>
          </a:p>
        </p:txBody>
      </p:sp>
      <p:pic>
        <p:nvPicPr>
          <p:cNvPr id="1749"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0" name="Diagram 5" descr=""/>
          <p:cNvPicPr/>
          <p:nvPr/>
        </p:nvPicPr>
        <p:blipFill>
          <a:blip r:embed="rId1"/>
          <a:stretch/>
        </p:blipFill>
        <p:spPr>
          <a:xfrm>
            <a:off x="901800" y="1030320"/>
            <a:ext cx="7188120" cy="2700360"/>
          </a:xfrm>
          <a:prstGeom prst="rect">
            <a:avLst/>
          </a:prstGeom>
          <a:ln w="0">
            <a:noFill/>
          </a:ln>
        </p:spPr>
      </p:pic>
      <p:pic>
        <p:nvPicPr>
          <p:cNvPr id="1751" name="Diagram 7" descr=""/>
          <p:cNvPicPr/>
          <p:nvPr/>
        </p:nvPicPr>
        <p:blipFill>
          <a:blip r:embed="rId2"/>
          <a:stretch/>
        </p:blipFill>
        <p:spPr>
          <a:xfrm>
            <a:off x="901800" y="3700440"/>
            <a:ext cx="7188120" cy="2700360"/>
          </a:xfrm>
          <a:prstGeom prst="rect">
            <a:avLst/>
          </a:prstGeom>
          <a:ln w="0">
            <a:noFill/>
          </a:ln>
        </p:spPr>
      </p:pic>
      <p:sp>
        <p:nvSpPr>
          <p:cNvPr id="1752"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2060"/>
                </a:solidFill>
                <a:latin typeface="Calibri"/>
              </a:rPr>
              <a:t>Region 1</a:t>
            </a:r>
            <a:br>
              <a:rPr sz="3600"/>
            </a:br>
            <a:r>
              <a:rPr b="1" lang="en-US" sz="3600" spc="-1" strike="noStrike">
                <a:solidFill>
                  <a:srgbClr val="002060"/>
                </a:solidFill>
                <a:latin typeface="Calibri"/>
              </a:rPr>
              <a:t>Professional Development Consultants</a:t>
            </a:r>
            <a:br>
              <a:rPr sz="3600"/>
            </a:br>
            <a:endParaRPr b="0" lang="en-US" sz="3600" spc="-1" strike="noStrike">
              <a:solidFill>
                <a:srgbClr val="000000"/>
              </a:solidFill>
              <a:latin typeface="Calibri"/>
            </a:endParaRPr>
          </a:p>
        </p:txBody>
      </p:sp>
      <p:sp>
        <p:nvSpPr>
          <p:cNvPr id="1754"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5"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has been a schedule and completed annual NC Educator Evaluation System training and orientation with all staff.</a:t>
            </a:r>
            <a:endParaRPr b="0" lang="en-US" sz="4000" spc="-1" strike="noStrike">
              <a:solidFill>
                <a:srgbClr val="000000"/>
              </a:solidFill>
              <a:latin typeface="Calibri"/>
            </a:endParaRPr>
          </a:p>
        </p:txBody>
      </p:sp>
      <p:graphicFrame>
        <p:nvGraphicFramePr>
          <p:cNvPr id="1622" name="TPChart"/>
          <p:cNvGraphicFramePr/>
          <p:nvPr/>
        </p:nvGraphicFramePr>
        <p:xfrm>
          <a:off x="4343400" y="1714680"/>
          <a:ext cx="4572000" cy="5143320"/>
        </p:xfrm>
        <a:graphic>
          <a:graphicData uri="http://schemas.openxmlformats.org/presentationml/2006/ole">
            <p:oleObj r:id="rId1" spid="">
              <p:embed/>
              <p:pic>
                <p:nvPicPr>
                  <p:cNvPr id="1623" name="TPChart" descr=""/>
                  <p:cNvPicPr/>
                  <p:nvPr/>
                </p:nvPicPr>
                <p:blipFill>
                  <a:blip r:embed="rId2"/>
                  <a:stretch/>
                </p:blipFill>
                <p:spPr>
                  <a:xfrm>
                    <a:off x="4343400" y="1714680"/>
                    <a:ext cx="4572000" cy="5143320"/>
                  </a:xfrm>
                  <a:prstGeom prst="rect">
                    <a:avLst/>
                  </a:prstGeom>
                  <a:ln w="0">
                    <a:noFill/>
                  </a:ln>
                </p:spPr>
              </p:pic>
            </p:oleObj>
          </a:graphicData>
        </a:graphic>
      </p:graphicFrame>
      <p:sp>
        <p:nvSpPr>
          <p:cNvPr id="1624" name="PlaceHolder 2"/>
          <p:cNvSpPr>
            <a:spLocks noGrp="1"/>
          </p:cNvSpPr>
          <p:nvPr>
            <p:ph/>
          </p:nvPr>
        </p:nvSpPr>
        <p:spPr>
          <a:xfrm>
            <a:off x="457200" y="32767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restart="never" nodeType="clickEffect" fill="hold" presetClass="entr" presetID="1" repeatCount="1000">
                                  <p:stCondLst>
                                    <p:cond delay="0"/>
                                  </p:stCondLst>
                                  <p:childTnLst>
                                    <p:set>
                                      <p:cBhvr>
                                        <p:cTn id="12" dur="1" fill="hold">
                                          <p:stCondLst>
                                            <p:cond delay="0"/>
                                          </p:stCondLst>
                                        </p:cTn>
                                        <p:tgtEl>
                                          <p:spTgt spid="1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now feel more comfortable using the NCEES to complete an observation, a teacher’s PDP, and self-assessment.</a:t>
            </a:r>
            <a:endParaRPr b="0" lang="en-US" sz="3600" spc="-1" strike="noStrike">
              <a:solidFill>
                <a:srgbClr val="000000"/>
              </a:solidFill>
              <a:latin typeface="Calibri"/>
            </a:endParaRPr>
          </a:p>
        </p:txBody>
      </p:sp>
      <p:graphicFrame>
        <p:nvGraphicFramePr>
          <p:cNvPr id="1757" name="TPChart"/>
          <p:cNvGraphicFramePr/>
          <p:nvPr/>
        </p:nvGraphicFramePr>
        <p:xfrm>
          <a:off x="4572000" y="1714680"/>
          <a:ext cx="4572000" cy="5143320"/>
        </p:xfrm>
        <a:graphic>
          <a:graphicData uri="http://schemas.openxmlformats.org/presentationml/2006/ole">
            <p:oleObj r:id="rId1" spid="">
              <p:embed/>
              <p:pic>
                <p:nvPicPr>
                  <p:cNvPr id="1758"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59" name="PlaceHolder 2"/>
          <p:cNvSpPr>
            <a:spLocks noGrp="1"/>
          </p:cNvSpPr>
          <p:nvPr>
            <p:ph/>
          </p:nvPr>
        </p:nvSpPr>
        <p:spPr>
          <a:xfrm>
            <a:off x="380880" y="2514240"/>
            <a:ext cx="41148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0" name="Picture 3" descr=""/>
          <p:cNvPicPr/>
          <p:nvPr/>
        </p:nvPicPr>
        <p:blipFill>
          <a:blip r:embed="rId1"/>
          <a:stretch/>
        </p:blipFill>
        <p:spPr>
          <a:xfrm rot="20986200">
            <a:off x="6490800" y="210600"/>
            <a:ext cx="2529000" cy="1619280"/>
          </a:xfrm>
          <a:prstGeom prst="rect">
            <a:avLst/>
          </a:prstGeom>
          <a:ln w="0">
            <a:noFill/>
          </a:ln>
        </p:spPr>
      </p:pic>
      <p:sp>
        <p:nvSpPr>
          <p:cNvPr id="1761"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libri"/>
              </a:rPr>
              <a:t>Ticket out the Door</a:t>
            </a:r>
            <a:endParaRPr b="0" lang="en-US" sz="5400" spc="-1" strike="noStrike">
              <a:solidFill>
                <a:srgbClr val="000000"/>
              </a:solidFill>
              <a:latin typeface="Calibri"/>
            </a:endParaRPr>
          </a:p>
        </p:txBody>
      </p:sp>
      <p:sp>
        <p:nvSpPr>
          <p:cNvPr id="1762" name=""/>
          <p:cNvSpPr txBox="1"/>
          <p:nvPr/>
        </p:nvSpPr>
        <p:spPr>
          <a:xfrm>
            <a:off x="457200" y="160020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You may complete the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icket out the Door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y clicking below</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Narrow"/>
                <a:hlinkClick r:id="rId2"/>
              </a:rPr>
              <a:t>Reflection</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63"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64"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26"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27"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28"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32"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33"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35"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Principal’s and Assistant Principal’s Responsibility</a:t>
            </a:r>
            <a:endParaRPr b="0" lang="en-US" sz="4000" spc="-1" strike="noStrike">
              <a:solidFill>
                <a:srgbClr val="000000"/>
              </a:solidFill>
              <a:latin typeface="Calibri"/>
            </a:endParaRPr>
          </a:p>
        </p:txBody>
      </p:sp>
      <p:pic>
        <p:nvPicPr>
          <p:cNvPr id="1637" name="Content Placeholder 3" descr=""/>
          <p:cNvPicPr/>
          <p:nvPr/>
        </p:nvPicPr>
        <p:blipFill>
          <a:blip r:embed="rId1"/>
          <a:stretch/>
        </p:blipFill>
        <p:spPr>
          <a:xfrm>
            <a:off x="450720" y="1566720"/>
            <a:ext cx="8089920" cy="4535640"/>
          </a:xfrm>
          <a:prstGeom prst="rect">
            <a:avLst/>
          </a:prstGeom>
          <a:ln w="0">
            <a:noFill/>
          </a:ln>
        </p:spPr>
      </p:pic>
      <p:grpSp>
        <p:nvGrpSpPr>
          <p:cNvPr id="1638" name="Rounded Rectangle 4"/>
          <p:cNvGrpSpPr/>
          <p:nvPr/>
        </p:nvGrpSpPr>
        <p:grpSpPr>
          <a:xfrm>
            <a:off x="3840120" y="1785960"/>
            <a:ext cx="1470240" cy="927000"/>
            <a:chOff x="3840120" y="1785960"/>
            <a:chExt cx="1470240" cy="927000"/>
          </a:xfrm>
        </p:grpSpPr>
        <p:pic>
          <p:nvPicPr>
            <p:cNvPr id="1639" name="Rounded Rectangle 4" descr=""/>
            <p:cNvPicPr/>
            <p:nvPr/>
          </p:nvPicPr>
          <p:blipFill>
            <a:blip r:embed="rId2"/>
            <a:stretch/>
          </p:blipFill>
          <p:spPr>
            <a:xfrm>
              <a:off x="3840120" y="1785960"/>
              <a:ext cx="1470240" cy="927000"/>
            </a:xfrm>
            <a:prstGeom prst="rect">
              <a:avLst/>
            </a:prstGeom>
            <a:ln w="0">
              <a:noFill/>
            </a:ln>
          </p:spPr>
        </p:pic>
        <p:sp>
          <p:nvSpPr>
            <p:cNvPr id="1640"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ea typeface="Arial"/>
              </a:rPr>
              <a:t>We’re Here to Help!</a:t>
            </a:r>
            <a:endParaRPr b="0" lang="en-US" sz="4400" spc="-1" strike="noStrike">
              <a:solidFill>
                <a:srgbClr val="000000"/>
              </a:solidFill>
              <a:latin typeface="Calibri"/>
            </a:endParaRPr>
          </a:p>
        </p:txBody>
      </p:sp>
      <p:pic>
        <p:nvPicPr>
          <p:cNvPr id="1643" name="Content Placeholder 5" descr="northeast.gif"/>
          <p:cNvPicPr/>
          <p:nvPr/>
        </p:nvPicPr>
        <p:blipFill>
          <a:blip r:embed="rId1"/>
          <a:stretch/>
        </p:blipFill>
        <p:spPr>
          <a:xfrm>
            <a:off x="2514600" y="1752480"/>
            <a:ext cx="3714840" cy="3200400"/>
          </a:xfrm>
          <a:prstGeom prst="rect">
            <a:avLst/>
          </a:prstGeom>
          <a:ln w="0">
            <a:noFill/>
          </a:ln>
        </p:spPr>
      </p:pic>
      <p:pic>
        <p:nvPicPr>
          <p:cNvPr id="1644" name="Picture 7" descr="Dianne%20Meiggs[1].JPG"/>
          <p:cNvPicPr/>
          <p:nvPr/>
        </p:nvPicPr>
        <p:blipFill>
          <a:blip r:embed="rId2"/>
          <a:stretch/>
        </p:blipFill>
        <p:spPr>
          <a:xfrm>
            <a:off x="533520" y="2362320"/>
            <a:ext cx="1798560" cy="2514600"/>
          </a:xfrm>
          <a:prstGeom prst="rect">
            <a:avLst/>
          </a:prstGeom>
          <a:ln w="0">
            <a:noFill/>
          </a:ln>
        </p:spPr>
      </p:pic>
      <p:pic>
        <p:nvPicPr>
          <p:cNvPr id="1645" name="Picture 6" descr="beth pic 2.bmp"/>
          <p:cNvPicPr/>
          <p:nvPr/>
        </p:nvPicPr>
        <p:blipFill>
          <a:blip r:embed="rId3"/>
          <a:stretch/>
        </p:blipFill>
        <p:spPr>
          <a:xfrm>
            <a:off x="6629400" y="2514600"/>
            <a:ext cx="1771560" cy="2389320"/>
          </a:xfrm>
          <a:prstGeom prst="rect">
            <a:avLst/>
          </a:prstGeom>
          <a:ln w="0">
            <a:noFill/>
          </a:ln>
        </p:spPr>
      </p:pic>
      <p:sp>
        <p:nvSpPr>
          <p:cNvPr id="1646" name="Rectangle 5"/>
          <p:cNvSpPr/>
          <p:nvPr/>
        </p:nvSpPr>
        <p:spPr>
          <a:xfrm>
            <a:off x="1905120" y="495288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region1rttt.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48" name="Group 21"/>
          <p:cNvGrpSpPr/>
          <p:nvPr/>
        </p:nvGrpSpPr>
        <p:grpSpPr>
          <a:xfrm>
            <a:off x="1828800" y="1676520"/>
            <a:ext cx="5562720" cy="4267080"/>
            <a:chOff x="1828800" y="1676520"/>
            <a:chExt cx="5562720" cy="4267080"/>
          </a:xfrm>
        </p:grpSpPr>
        <p:grpSp>
          <p:nvGrpSpPr>
            <p:cNvPr id="1649" name="Group 7"/>
            <p:cNvGrpSpPr/>
            <p:nvPr/>
          </p:nvGrpSpPr>
          <p:grpSpPr>
            <a:xfrm>
              <a:off x="1828800" y="1676520"/>
              <a:ext cx="2718720" cy="2084760"/>
              <a:chOff x="1828800" y="1676520"/>
              <a:chExt cx="2718720" cy="2084760"/>
            </a:xfrm>
          </p:grpSpPr>
          <p:grpSp>
            <p:nvGrpSpPr>
              <p:cNvPr id="1650" name="Pie 18"/>
              <p:cNvGrpSpPr/>
              <p:nvPr/>
            </p:nvGrpSpPr>
            <p:grpSpPr>
              <a:xfrm>
                <a:off x="1828800" y="1676520"/>
                <a:ext cx="2718720" cy="2084760"/>
                <a:chOff x="1828800" y="1676520"/>
                <a:chExt cx="2718720" cy="2084760"/>
              </a:xfrm>
            </p:grpSpPr>
            <p:pic>
              <p:nvPicPr>
                <p:cNvPr id="1651" name="Pie 18" descr=""/>
                <p:cNvPicPr/>
                <p:nvPr/>
              </p:nvPicPr>
              <p:blipFill>
                <a:blip r:embed="rId1"/>
                <a:stretch/>
              </p:blipFill>
              <p:spPr>
                <a:xfrm>
                  <a:off x="1828800" y="1676520"/>
                  <a:ext cx="2718720" cy="2084760"/>
                </a:xfrm>
                <a:prstGeom prst="rect">
                  <a:avLst/>
                </a:prstGeom>
                <a:ln w="0">
                  <a:noFill/>
                </a:ln>
              </p:spPr>
            </p:pic>
            <p:sp>
              <p:nvSpPr>
                <p:cNvPr id="1652"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3" name="Pie 12"/>
              <p:cNvGrpSpPr/>
              <p:nvPr/>
            </p:nvGrpSpPr>
            <p:grpSpPr>
              <a:xfrm>
                <a:off x="2067480" y="1937880"/>
                <a:ext cx="2467800" cy="1811520"/>
                <a:chOff x="2067480" y="1937880"/>
                <a:chExt cx="2467800" cy="1811520"/>
              </a:xfrm>
            </p:grpSpPr>
            <p:pic>
              <p:nvPicPr>
                <p:cNvPr id="1654" name="Pie 12" descr=""/>
                <p:cNvPicPr/>
                <p:nvPr/>
              </p:nvPicPr>
              <p:blipFill>
                <a:blip r:embed="rId2"/>
                <a:stretch/>
              </p:blipFill>
              <p:spPr>
                <a:xfrm>
                  <a:off x="2067480" y="1937880"/>
                  <a:ext cx="2467800" cy="1811520"/>
                </a:xfrm>
                <a:prstGeom prst="rect">
                  <a:avLst/>
                </a:prstGeom>
                <a:ln w="0">
                  <a:noFill/>
                </a:ln>
              </p:spPr>
            </p:pic>
            <p:sp>
              <p:nvSpPr>
                <p:cNvPr id="1655"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56" name="Group 8"/>
            <p:cNvGrpSpPr/>
            <p:nvPr/>
          </p:nvGrpSpPr>
          <p:grpSpPr>
            <a:xfrm>
              <a:off x="4672800" y="1676520"/>
              <a:ext cx="2718720" cy="2084760"/>
              <a:chOff x="4672800" y="1676520"/>
              <a:chExt cx="2718720" cy="2084760"/>
            </a:xfrm>
          </p:grpSpPr>
          <p:grpSp>
            <p:nvGrpSpPr>
              <p:cNvPr id="1657" name="Pie 16"/>
              <p:cNvGrpSpPr/>
              <p:nvPr/>
            </p:nvGrpSpPr>
            <p:grpSpPr>
              <a:xfrm>
                <a:off x="4672800" y="1676520"/>
                <a:ext cx="2718720" cy="2084760"/>
                <a:chOff x="4672800" y="1676520"/>
                <a:chExt cx="2718720" cy="2084760"/>
              </a:xfrm>
            </p:grpSpPr>
            <p:pic>
              <p:nvPicPr>
                <p:cNvPr id="1658" name="Pie 16" descr=""/>
                <p:cNvPicPr/>
                <p:nvPr/>
              </p:nvPicPr>
              <p:blipFill>
                <a:blip r:embed="rId3"/>
                <a:stretch/>
              </p:blipFill>
              <p:spPr>
                <a:xfrm>
                  <a:off x="4672800" y="1676520"/>
                  <a:ext cx="2718720" cy="2084760"/>
                </a:xfrm>
                <a:prstGeom prst="rect">
                  <a:avLst/>
                </a:prstGeom>
                <a:ln w="0">
                  <a:noFill/>
                </a:ln>
              </p:spPr>
            </p:pic>
            <p:sp>
              <p:nvSpPr>
                <p:cNvPr id="1659"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0" name="Pie 14"/>
              <p:cNvGrpSpPr/>
              <p:nvPr/>
            </p:nvGrpSpPr>
            <p:grpSpPr>
              <a:xfrm>
                <a:off x="4690440" y="1937880"/>
                <a:ext cx="2343240" cy="1811520"/>
                <a:chOff x="4690440" y="1937880"/>
                <a:chExt cx="2343240" cy="1811520"/>
              </a:xfrm>
            </p:grpSpPr>
            <p:pic>
              <p:nvPicPr>
                <p:cNvPr id="1661" name="Pie 14" descr=""/>
                <p:cNvPicPr/>
                <p:nvPr/>
              </p:nvPicPr>
              <p:blipFill>
                <a:blip r:embed="rId4"/>
                <a:stretch/>
              </p:blipFill>
              <p:spPr>
                <a:xfrm>
                  <a:off x="4690440" y="1937880"/>
                  <a:ext cx="2343240" cy="1811520"/>
                </a:xfrm>
                <a:prstGeom prst="rect">
                  <a:avLst/>
                </a:prstGeom>
                <a:ln w="0">
                  <a:noFill/>
                </a:ln>
              </p:spPr>
            </p:pic>
            <p:sp>
              <p:nvSpPr>
                <p:cNvPr id="1662"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63" name="Group 9"/>
            <p:cNvGrpSpPr/>
            <p:nvPr/>
          </p:nvGrpSpPr>
          <p:grpSpPr>
            <a:xfrm>
              <a:off x="4672800" y="3858840"/>
              <a:ext cx="2718720" cy="2084760"/>
              <a:chOff x="4672800" y="3858840"/>
              <a:chExt cx="2718720" cy="2084760"/>
            </a:xfrm>
          </p:grpSpPr>
          <p:grpSp>
            <p:nvGrpSpPr>
              <p:cNvPr id="1664" name="Pie 14"/>
              <p:cNvGrpSpPr/>
              <p:nvPr/>
            </p:nvGrpSpPr>
            <p:grpSpPr>
              <a:xfrm>
                <a:off x="4672800" y="3858840"/>
                <a:ext cx="2718720" cy="2084760"/>
                <a:chOff x="4672800" y="3858840"/>
                <a:chExt cx="2718720" cy="2084760"/>
              </a:xfrm>
            </p:grpSpPr>
            <p:pic>
              <p:nvPicPr>
                <p:cNvPr id="1665" name="Pie 14" descr=""/>
                <p:cNvPicPr/>
                <p:nvPr/>
              </p:nvPicPr>
              <p:blipFill>
                <a:blip r:embed="rId5"/>
                <a:stretch/>
              </p:blipFill>
              <p:spPr>
                <a:xfrm>
                  <a:off x="4672800" y="3858840"/>
                  <a:ext cx="2718720" cy="2084760"/>
                </a:xfrm>
                <a:prstGeom prst="rect">
                  <a:avLst/>
                </a:prstGeom>
                <a:ln w="0">
                  <a:noFill/>
                </a:ln>
              </p:spPr>
            </p:pic>
            <p:sp>
              <p:nvSpPr>
                <p:cNvPr id="1666"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7" name="Pie 16"/>
              <p:cNvGrpSpPr/>
              <p:nvPr/>
            </p:nvGrpSpPr>
            <p:grpSpPr>
              <a:xfrm>
                <a:off x="4815720" y="3888360"/>
                <a:ext cx="2140560" cy="1675080"/>
                <a:chOff x="4815720" y="3888360"/>
                <a:chExt cx="2140560" cy="1675080"/>
              </a:xfrm>
            </p:grpSpPr>
            <p:pic>
              <p:nvPicPr>
                <p:cNvPr id="1668" name="Pie 16" descr=""/>
                <p:cNvPicPr/>
                <p:nvPr/>
              </p:nvPicPr>
              <p:blipFill>
                <a:blip r:embed="rId6"/>
                <a:stretch/>
              </p:blipFill>
              <p:spPr>
                <a:xfrm>
                  <a:off x="4815720" y="3888360"/>
                  <a:ext cx="2140560" cy="1675080"/>
                </a:xfrm>
                <a:prstGeom prst="rect">
                  <a:avLst/>
                </a:prstGeom>
                <a:ln w="0">
                  <a:noFill/>
                </a:ln>
              </p:spPr>
            </p:pic>
            <p:sp>
              <p:nvSpPr>
                <p:cNvPr id="1669"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70" name="Group 10"/>
            <p:cNvGrpSpPr/>
            <p:nvPr/>
          </p:nvGrpSpPr>
          <p:grpSpPr>
            <a:xfrm>
              <a:off x="1828800" y="3858840"/>
              <a:ext cx="2718720" cy="2084760"/>
              <a:chOff x="1828800" y="3858840"/>
              <a:chExt cx="2718720" cy="2084760"/>
            </a:xfrm>
          </p:grpSpPr>
          <p:grpSp>
            <p:nvGrpSpPr>
              <p:cNvPr id="1671" name="Pie 12"/>
              <p:cNvGrpSpPr/>
              <p:nvPr/>
            </p:nvGrpSpPr>
            <p:grpSpPr>
              <a:xfrm>
                <a:off x="1828800" y="3858840"/>
                <a:ext cx="2718720" cy="2084760"/>
                <a:chOff x="1828800" y="3858840"/>
                <a:chExt cx="2718720" cy="2084760"/>
              </a:xfrm>
            </p:grpSpPr>
            <p:pic>
              <p:nvPicPr>
                <p:cNvPr id="1672" name="Pie 12" descr=""/>
                <p:cNvPicPr/>
                <p:nvPr/>
              </p:nvPicPr>
              <p:blipFill>
                <a:blip r:embed="rId7"/>
                <a:stretch/>
              </p:blipFill>
              <p:spPr>
                <a:xfrm>
                  <a:off x="1828800" y="3858840"/>
                  <a:ext cx="2718720" cy="2084760"/>
                </a:xfrm>
                <a:prstGeom prst="rect">
                  <a:avLst/>
                </a:prstGeom>
                <a:ln w="0">
                  <a:noFill/>
                </a:ln>
              </p:spPr>
            </p:pic>
            <p:sp>
              <p:nvSpPr>
                <p:cNvPr id="1673"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4" name="Pie 18"/>
              <p:cNvGrpSpPr/>
              <p:nvPr/>
            </p:nvGrpSpPr>
            <p:grpSpPr>
              <a:xfrm>
                <a:off x="2462040" y="3870720"/>
                <a:ext cx="2073600" cy="1675080"/>
                <a:chOff x="2462040" y="3870720"/>
                <a:chExt cx="2073600" cy="1675080"/>
              </a:xfrm>
            </p:grpSpPr>
            <p:pic>
              <p:nvPicPr>
                <p:cNvPr id="1675" name="Pie 18" descr=""/>
                <p:cNvPicPr/>
                <p:nvPr/>
              </p:nvPicPr>
              <p:blipFill>
                <a:blip r:embed="rId8"/>
                <a:stretch/>
              </p:blipFill>
              <p:spPr>
                <a:xfrm>
                  <a:off x="2462040" y="3870720"/>
                  <a:ext cx="2073600" cy="1675080"/>
                </a:xfrm>
                <a:prstGeom prst="rect">
                  <a:avLst/>
                </a:prstGeom>
                <a:ln w="0">
                  <a:noFill/>
                </a:ln>
              </p:spPr>
            </p:pic>
            <p:sp>
              <p:nvSpPr>
                <p:cNvPr id="1676"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77" name="Circular Arrow 10"/>
            <p:cNvGrpSpPr/>
            <p:nvPr/>
          </p:nvGrpSpPr>
          <p:grpSpPr>
            <a:xfrm>
              <a:off x="4145400" y="3383280"/>
              <a:ext cx="908280" cy="341280"/>
              <a:chOff x="4145400" y="3383280"/>
              <a:chExt cx="908280" cy="341280"/>
            </a:xfrm>
          </p:grpSpPr>
          <p:pic>
            <p:nvPicPr>
              <p:cNvPr id="1678" name="Circular Arrow 10" descr=""/>
              <p:cNvPicPr/>
              <p:nvPr/>
            </p:nvPicPr>
            <p:blipFill>
              <a:blip r:embed="rId9"/>
              <a:stretch/>
            </p:blipFill>
            <p:spPr>
              <a:xfrm>
                <a:off x="4145400" y="3383280"/>
                <a:ext cx="908280" cy="232920"/>
              </a:xfrm>
              <a:prstGeom prst="rect">
                <a:avLst/>
              </a:prstGeom>
              <a:ln w="0">
                <a:noFill/>
              </a:ln>
            </p:spPr>
          </p:pic>
          <p:sp>
            <p:nvSpPr>
              <p:cNvPr id="1679"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0" name="Circular Arrow 11"/>
            <p:cNvGrpSpPr/>
            <p:nvPr/>
          </p:nvGrpSpPr>
          <p:grpSpPr>
            <a:xfrm>
              <a:off x="4157640" y="3889440"/>
              <a:ext cx="908280" cy="341280"/>
              <a:chOff x="4157640" y="3889440"/>
              <a:chExt cx="908280" cy="341280"/>
            </a:xfrm>
          </p:grpSpPr>
          <p:pic>
            <p:nvPicPr>
              <p:cNvPr id="1681" name="Circular Arrow 11" descr=""/>
              <p:cNvPicPr/>
              <p:nvPr/>
            </p:nvPicPr>
            <p:blipFill>
              <a:blip r:embed="rId10"/>
              <a:stretch/>
            </p:blipFill>
            <p:spPr>
              <a:xfrm>
                <a:off x="4157640" y="3994920"/>
                <a:ext cx="908280" cy="235800"/>
              </a:xfrm>
              <a:prstGeom prst="rect">
                <a:avLst/>
              </a:prstGeom>
              <a:ln w="0">
                <a:noFill/>
              </a:ln>
            </p:spPr>
          </p:pic>
          <p:sp>
            <p:nvSpPr>
              <p:cNvPr id="1682"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09-15T00:09:04Z</dcterms:modified>
  <cp:revision>77</cp:revision>
  <dc:subject/>
  <dc:title>RESA Implementation Sessions Day 2 Process</dc:title>
</cp:coreProperties>
</file>